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532B-70F1-4BDB-BAF5-9320C18EA1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CB21-62C3-45E8-BB7D-2AEB9F78E7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392-C16C-461C-BB88-317B177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5CC-8C27-413F-B8C6-44E5B5D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5F9-AA83-4721-9528-E8697D3F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E11-8A21-40ED-BCCE-54593B75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78FB-B49B-4845-883B-01DABB05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EE7FA-5D83-416B-9C0D-D8496C08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2042-BDDF-45D4-9701-901F22BD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1CF1-AE5C-493A-9DB6-4724C10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C833-DEA2-4A37-8FC8-885EB9A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D5F8C-E0AE-49C5-831B-0D11555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3478-7230-4FD8-8FAE-8C48C45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A68-BA69-494A-A6CD-D2A29FB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D445-E8B3-4BB4-AC5D-A4BFB67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8108B-BAF6-420F-80DA-D9B2721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6B11-98BF-4321-A208-9C186AFC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DF84A-70C5-472D-B968-6E140C30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E949C-B055-4880-9432-77D65D9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A84-F034-4274-AEAC-AB40952F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F30-F264-403F-9D32-44B0911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BE4-6C3A-4B8F-8DC1-F942355C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A99-BFBF-45B9-B0E0-FFC28BD3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A21-9BD9-4BBB-AD02-E5B3F2A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565-8BF8-485C-AB21-F1E911F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DF1-F282-4B9C-A456-3D82782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AA8-FD9D-4E28-93C6-3CDB605B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EE9-B486-4E6E-8278-A37FFB3BB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nadar+en+el+mar&amp;hl=en&amp;gbv=2&amp;biw=1093&amp;bih=524&amp;tbm=isch&amp;tbnid=unnv7xEo91qy5M:&amp;imgrefurl=http://aguasabiertaschacao.blogspot.com/2010/08/tips-para-superar-el-miedo-nadar-en.html&amp;docid=THYNdb1ubh-TcM&amp;imgurl=http://4.bp.blogspot.com/_5w5J3PcfW5U/TGVOcoZyA_I/AAAAAAAAAAU/Aanoil4GoeE/s1600/brazado.jpg&amp;w=500&amp;h=332&amp;ei=AXtwT-2vEsPr0gHw__XYBg&amp;zoom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jugar+tenis+en+el+balneario&amp;hl=en&amp;gbv=2&amp;biw=1093&amp;bih=524&amp;tbm=isch&amp;tbnid=oLucLoQGzjF3oM:&amp;imgrefurl=http://noticias.lainformacion.mx/deporte/tenis/el-colombiano-santiago-giraldo-vence-a-david-nalbandian-en-la-primera-ronda_myc8E7k7tLXcGgNG11eWn4/&amp;docid=65oGE-L77JXi5M&amp;imgurl=http://images.lainformacion.mx/cms/resultados-de-la-jornada-del-abierto-mexicano-de-acapulco/2012_2_28_aUOdAXribpOpmMn3IvLox3.jpg?width=1120&amp;type=flat&amp;id=KgrNaDWUtPwVLZoA85XkV4&amp;time=1330477139&amp;project=mexico&amp;w=1024&amp;h=1435&amp;ei=hntwT97qOcjV0QHY09T7Bg&amp;zoom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bucear&amp;hl=en&amp;gbv=2&amp;biw=1093&amp;bih=524&amp;tbm=isch&amp;tbnid=Fpr0OzJqaWS4rM:&amp;imgrefurl=http://universomarino.com/2009/11/04/bucear-en-los-mares-de-tahiti/&amp;docid=x1FhCzu6Q7jfWM&amp;imgurl=http://universomarino.com/wp-content/uploads/2009/11/buceo-en-tahiti-2.jpg&amp;w=500&amp;h=332&amp;ei=ln5wT4_aHcPb0QHW3Lm_Bg&amp;zoom=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3932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Me llamo __________ Clase 8 IM</a:t>
            </a:r>
            <a:br>
              <a:rPr sz="4000"/>
            </a:b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La fecha es el 27 de marzo del 20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0000"/>
                </a:solidFill>
                <a:latin typeface="Tahoma"/>
              </a:rPr>
              <a:t>Propósito # 38:  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¿Qué hiciste tú en el balneari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0000"/>
                </a:solidFill>
                <a:latin typeface="Tahoma"/>
              </a:rPr>
              <a:t>Actividad Inicial: 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Completa usando la forma correcta del pretér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Anita tom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 el s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Jose Luis nad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 en la pisc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Yo esqui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 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en el agu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Maripaz y Nando buce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Y luego todos nosotros tom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  <a:ea typeface="Tahoma"/>
              </a:rPr>
              <a:t> un refresco en un caf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291960"/>
            <a:ext cx="6781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0000"/>
                </a:solidFill>
                <a:latin typeface="Tahoma"/>
              </a:rPr>
              <a:t>Verbos irregula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Ayer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empec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a hacer mi t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temprano. (empez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Anoche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empec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a planear m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Vacaciones para este verano. (empez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rg_hi" descr="https://encrypted-tbn3.google.com/images?q=tbn:ANd9GcQhFttUHzx1knLv3L1qGgRUHe8VSg7WRwH2pMKRiuFku-jWoAJC"/>
          <p:cNvPicPr/>
          <p:nvPr/>
        </p:nvPicPr>
        <p:blipFill>
          <a:blip r:embed="rId1"/>
          <a:stretch/>
        </p:blipFill>
        <p:spPr>
          <a:xfrm>
            <a:off x="1905120" y="5334120"/>
            <a:ext cx="3371760" cy="1352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http://www.jacksonmem.lib.me.us/cms/sites/default/images/HOMEWORK_HELP_PIC.jpg"/>
          <p:cNvPicPr/>
          <p:nvPr/>
        </p:nvPicPr>
        <p:blipFill>
          <a:blip r:embed="rId2"/>
          <a:stretch/>
        </p:blipFill>
        <p:spPr>
          <a:xfrm>
            <a:off x="6858000" y="1600200"/>
            <a:ext cx="18288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291960"/>
            <a:ext cx="74674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0000"/>
                </a:solidFill>
                <a:latin typeface="Tahoma"/>
              </a:rPr>
              <a:t>Verbos irregula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año pasado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practiqu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la plancha de vela en el balneario. (practic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n el mar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practiqu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la tab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hawaiana. (practic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rg_hi" descr="https://encrypted-tbn0.google.com/images?q=tbn:ANd9GcQngonjizuGLvJQMjyCzCyjHNkhvh0yC5oCYak6ezI_waqBXgavew"/>
          <p:cNvPicPr/>
          <p:nvPr/>
        </p:nvPicPr>
        <p:blipFill>
          <a:blip r:embed="rId1"/>
          <a:stretch/>
        </p:blipFill>
        <p:spPr>
          <a:xfrm>
            <a:off x="7086600" y="2590920"/>
            <a:ext cx="144792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ww.thebestbeach.net/wp-content/uploads/2011/05/surfing2.jpg"/>
          <p:cNvPicPr/>
          <p:nvPr/>
        </p:nvPicPr>
        <p:blipFill>
          <a:blip r:embed="rId2"/>
          <a:stretch/>
        </p:blipFill>
        <p:spPr>
          <a:xfrm>
            <a:off x="2819520" y="4800600"/>
            <a:ext cx="240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0000"/>
                </a:solidFill>
                <a:latin typeface="Tahoma"/>
              </a:rPr>
              <a:t>Verbos irregula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Ayer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jugu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tenis con mis amig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(ju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año pasado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jugué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beisbol con mis primos. (ju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Anoche, </a:t>
            </a:r>
            <a:r>
              <a:rPr b="1" lang="es-DO" sz="3200" spc="-1" strike="noStrike">
                <a:solidFill>
                  <a:srgbClr val="ff0000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jugué 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fútbol con 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papá. (ju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il_fi" descr="http://t2.gstatic.com/images?q=tbn:ANd9GcSfCfTP_MyBW4OjGv4FtkKZBRMqpl_bD1YTCUC8gbxJ-NnQHqpho24S2nJYmg"/>
          <p:cNvPicPr/>
          <p:nvPr/>
        </p:nvPicPr>
        <p:blipFill>
          <a:blip r:embed="rId1"/>
          <a:stretch/>
        </p:blipFill>
        <p:spPr>
          <a:xfrm>
            <a:off x="7678800" y="609480"/>
            <a:ext cx="146520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f00.inventorspot.com/images/4_1196909807_baseball_player.jpg"/>
          <p:cNvPicPr/>
          <p:nvPr/>
        </p:nvPicPr>
        <p:blipFill>
          <a:blip r:embed="rId2"/>
          <a:stretch/>
        </p:blipFill>
        <p:spPr>
          <a:xfrm>
            <a:off x="7086600" y="3657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columbia.edu/cu/newmedia/soccer/soccer.jpg"/>
          <p:cNvPicPr/>
          <p:nvPr/>
        </p:nvPicPr>
        <p:blipFill>
          <a:blip r:embed="rId3"/>
          <a:stretch/>
        </p:blipFill>
        <p:spPr>
          <a:xfrm>
            <a:off x="4191120" y="4800600"/>
            <a:ext cx="13716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0000"/>
                </a:solidFill>
                <a:latin typeface="Tahoma"/>
              </a:rPr>
              <a:t>Práct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00"/>
                </a:solidFill>
                <a:latin typeface="Tahoma"/>
              </a:rPr>
              <a:t>Libro de trabajo. P 60 (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1.Yo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la guitarra y él l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también. (toc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2. Yo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y ell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también. (ju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3. Yo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y él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a la misma hora. (lle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4. Yo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un tanto y ell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otro. (marc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5. Yo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y ell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 también. (pagar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¿</a:t>
            </a:r>
            <a:r>
              <a:rPr b="0" lang="es-DO" sz="4400" spc="-1" strike="noStrike">
                <a:solidFill>
                  <a:srgbClr val="ff0000"/>
                </a:solidFill>
                <a:latin typeface="Tahoma"/>
              </a:rPr>
              <a:t>Cuál es la regl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Con el pronombre </a:t>
            </a:r>
            <a:r>
              <a:rPr b="0" lang="es-DO" sz="3200" spc="-1" strike="noStrike">
                <a:solidFill>
                  <a:srgbClr val="38ff38"/>
                </a:solidFill>
                <a:latin typeface="Tahoma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, los verbos que terminan en –car, -gar y –zar, son irregul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-car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-gar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38ff38"/>
                </a:solidFill>
                <a:latin typeface="Tahoma"/>
              </a:rPr>
              <a:t>   -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2929ff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2929ff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DO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526040" y="419112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ffff00"/>
                </a:solidFill>
                <a:latin typeface="Tahoma"/>
              </a:rPr>
              <a:t>qu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67080" y="4267080"/>
            <a:ext cx="99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ffff00"/>
                </a:solidFill>
                <a:latin typeface="Tahoma"/>
              </a:rPr>
              <a:t>gué </a:t>
            </a:r>
            <a:r>
              <a:rPr b="1" lang="es-DO" sz="1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9920" y="426708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ffff00"/>
                </a:solidFill>
                <a:latin typeface="Tahoma"/>
              </a:rPr>
              <a:t>c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ctividad interperso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just came back from a resort, and your best friend wants to know how you spent your time, and what activities did you do while at the resort. In pairs, initiate a conversation regarding this matter. One student asks the questions, and the other respo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Repaso de la tarea #3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ibro de texto: Historieta 7 (Una tarde en la play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  <a:ea typeface="Tahoma"/>
              </a:rPr>
              <a:t>1. Ayer, ¿paso Rubén la tarde en la play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  <a:ea typeface="Tahoma"/>
              </a:rPr>
              <a:t>2. ¿Tomó él mucho so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  <a:ea typeface="Tahoma"/>
              </a:rPr>
              <a:t>3. ¿Usó una crema protector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  <a:ea typeface="Tahoma"/>
              </a:rPr>
              <a:t>4. ¿Nadó en el m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  <a:ea typeface="Tahoma"/>
              </a:rPr>
              <a:t>5. ¿Esquió en el agu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-22896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Libro de trabajo: P. 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Choose the correct completion and circle the corresponding le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1. Jugaron tenis en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de ten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a. el campo, b. la cancha, c. la tab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2. Un jugador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la pelo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a. jugó, b. nadó, c. golpe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3. La pelota pasó 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la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a. cerca de, b. por encima de, c. 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Complete with the correct preterit forms of the verbs in parenth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Él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en el mar y yo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en el lago. (esqui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Ella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en el lago y yo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 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en la piscina. (nad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Él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una crema protectora y yo 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	</a:t>
            </a:r>
            <a:r>
              <a:rPr b="1" lang="es-DO" sz="2400" spc="-1" strike="noStrike">
                <a:solidFill>
                  <a:srgbClr val="ffffff"/>
                </a:solidFill>
                <a:latin typeface="Tahoma"/>
                <a:ea typeface="Tahoma"/>
              </a:rPr>
              <a:t> una crema bronceadora también. (u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ctividad interpret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images regarding activities that can done at a resort (balneario) will be displayed on PowerPoint slides. For each image you will create one original sentence in SPANISH using the preterit form, describing what has just occurred. I will display each image for exactly 2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magen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rg_hi" descr="http://t3.gstatic.com/images?q=tbn:ANd9GcRSq54O_hM-p-1Y6ADf2-gx2Q5T3mPJhxnclSXyjmrJvcgUa-krn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76520"/>
            <a:ext cx="558144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61722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Puerto R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http://flagspot.net/images/p/pr.gif"/>
          <p:cNvPicPr/>
          <p:nvPr/>
        </p:nvPicPr>
        <p:blipFill>
          <a:blip r:embed="rId3"/>
          <a:stretch/>
        </p:blipFill>
        <p:spPr>
          <a:xfrm>
            <a:off x="7543800" y="2971800"/>
            <a:ext cx="1028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mage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rg_hi" descr="http://t0.gstatic.com/images?q=tbn:ANd9GcSK-EhGvFvwrrxv__3kAukOCsftFPy6Fn_1szL3YTXaTUrW3OR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3880"/>
            <a:ext cx="4343400" cy="472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s://encrypted-tbn2.google.com/images?q=tbn:ANd9GcQfm9kVxDSneZmZfgJ2weKAVNbM94h-qxJR-40_qz0wcfLj7-fJ"/>
          <p:cNvPicPr/>
          <p:nvPr/>
        </p:nvPicPr>
        <p:blipFill>
          <a:blip r:embed="rId3"/>
          <a:stretch/>
        </p:blipFill>
        <p:spPr>
          <a:xfrm>
            <a:off x="6172200" y="2895480"/>
            <a:ext cx="2162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mage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rg_hi" descr="http://t0.gstatic.com/images?q=tbn:ANd9GcTNcifdTRSO543s3mcISSfVw52SahCIzMNMuFSgLOg_AjuzsyG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057400"/>
            <a:ext cx="527688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17220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ahoma"/>
              </a:rPr>
              <a:t>La Flori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2" descr="http://geology.com/state-map/maps/florida-county-map.gif"/>
          <p:cNvPicPr/>
          <p:nvPr/>
        </p:nvPicPr>
        <p:blipFill>
          <a:blip r:embed="rId3"/>
          <a:stretch/>
        </p:blipFill>
        <p:spPr>
          <a:xfrm>
            <a:off x="7162920" y="3124080"/>
            <a:ext cx="1523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mage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715000" y="2819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ahoma"/>
              </a:rPr>
              <a:t>La República Dominica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il_fi" descr="http://www.eslkidstuff.com/images/sunbathe.gif"/>
          <p:cNvPicPr/>
          <p:nvPr/>
        </p:nvPicPr>
        <p:blipFill>
          <a:blip r:embed="rId1"/>
          <a:stretch/>
        </p:blipFill>
        <p:spPr>
          <a:xfrm>
            <a:off x="228600" y="1981080"/>
            <a:ext cx="5133960" cy="4118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3.gstatic.com/images?q=tbn:ANd9GcTNKYr1e3eLj8JxH-td2zpEogLFMG4GTMiesgmVedXRvFJZxlY55wtuycr2"/>
          <p:cNvPicPr/>
          <p:nvPr/>
        </p:nvPicPr>
        <p:blipFill>
          <a:blip r:embed="rId2"/>
          <a:stretch/>
        </p:blipFill>
        <p:spPr>
          <a:xfrm>
            <a:off x="6629400" y="4114800"/>
            <a:ext cx="19051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7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mage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3581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ahoma"/>
              </a:rPr>
              <a:t>Ecuad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http://www.worldatlas.com/webimage/flags/countrys/zzzflags/eclarge.jpg"/>
          <p:cNvPicPr/>
          <p:nvPr/>
        </p:nvPicPr>
        <p:blipFill>
          <a:blip r:embed="rId1"/>
          <a:stretch/>
        </p:blipFill>
        <p:spPr>
          <a:xfrm>
            <a:off x="6400800" y="4267080"/>
            <a:ext cx="2133720" cy="142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s://encrypted-tbn1.google.com/images?q=tbn:ANd9GcS-1D9y142n_1HMC-Ckt0eSGs6NCBr6dMc4chnADzBRrra0oqlFhA"/>
          <p:cNvPicPr/>
          <p:nvPr/>
        </p:nvPicPr>
        <p:blipFill>
          <a:blip r:embed="rId2"/>
          <a:stretch/>
        </p:blipFill>
        <p:spPr>
          <a:xfrm>
            <a:off x="304920" y="2057400"/>
            <a:ext cx="5333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3:26:18Z</dcterms:created>
  <dc:creator>Helen Zumaeta</dc:creator>
  <dc:description/>
  <dc:language>en-US</dc:language>
  <cp:lastModifiedBy>Leandy</cp:lastModifiedBy>
  <dcterms:modified xsi:type="dcterms:W3CDTF">2012-03-28T16:34:45Z</dcterms:modified>
  <cp:revision>56</cp:revision>
  <dc:subject/>
  <dc:title>Me llamo __________ Clase 8 IM La fecha es el 23 de marzo del 2012</dc:title>
</cp:coreProperties>
</file>